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5B3F-81BB-4F9C-AE07-6653750E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F70-C2D0-4487-9F83-4918459B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296-E180-4563-8FDF-33457C0D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33A-174F-48DF-9D14-25CE4EB3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5CA-3F68-46FC-8BE4-ED6B890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554-A48F-4350-93C5-C4A7C193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CE1-8C28-4B83-A8F3-64A767A9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D1A-87B9-4E78-94EC-F6DBF1D8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511-F0D7-47E6-9C3D-4B93A771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137-136E-4643-A552-C39C7A5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AC9-357F-491C-B75F-F6FF27B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5D3-A1C3-4561-8563-AE5FE19C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C87E-5EDA-41F8-9DB0-5819A20D3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roduction to Reaction R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measure how the mass of coca-cola changes over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hen analyze our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reate this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elapsed 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of cup and so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llect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data for 3 or 4 minutes until the mass no longer changes significa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280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xcel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how to plot two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ed vs.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aining vs.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rate of chan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=120s and t=20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antaneous rates of chan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=100s and t=2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rate of change of chan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=120s and t=20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antaneous rates of chan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=100s and t=25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athematical equation that relates the rate of change f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rms of the rate of change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gener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 +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3C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e the rate of change of A in terms of B, then C, then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5:52:31Z</dcterms:created>
  <dc:creator>FradkiL</dc:creator>
  <dc:description/>
  <dc:language>en-US</dc:language>
  <cp:lastModifiedBy>FradkiL</cp:lastModifiedBy>
  <dcterms:modified xsi:type="dcterms:W3CDTF">2010-03-30T16:21:13Z</dcterms:modified>
  <cp:revision>4</cp:revision>
  <dc:subject/>
  <dc:title>Introduction to Reaction Rates!</dc:title>
</cp:coreProperties>
</file>